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1676-D75F-4CE3-A73B-D5D96E88E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162E-80BD-4E1F-8870-6F4831F9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7C40-5C72-48A0-AEA9-56ACB3D9C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3DDB-1522-423C-A1B5-B30115BDD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832C-DE5A-42F4-B5DC-9027ED32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9AB9-AFEC-4428-8BFC-A7027822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4348-22F6-45F6-9C57-9489CE7A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1E43-E3A4-4C4D-B112-B45D2982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1994-4D21-4CB5-814F-CE1D51E7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1557-5E8C-4C90-94B0-370C7858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229C-62EC-4E4D-8546-05C83188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48ED-E51C-432A-A53F-FA273750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60AE-F761-42B0-BBE9-C586AE1D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4F40-E760-474E-86FD-6E7EDB64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3BD4-D171-4A00-A89C-11299C5C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090E-104B-490F-AF91-E24C26FA6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B596-869A-40E7-9F3A-CABC0940E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9EF4-C3D0-4BC4-9894-50725299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B63D-2C6D-4320-82CF-399A93DE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37C5-A433-4541-8919-DC061D5C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DC87-8591-4196-A28C-C2C71339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AA11-2B6B-4831-8869-83067B27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9EF5-33E4-46E1-B9AD-4BECE29A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B12D-7BFF-4554-8EDD-0A593548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F87F-9187-4D65-B390-3F515986714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B25B-F02B-4481-A601-627AFF6C1CD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Дорожные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ситуации – «ловушки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05120" y="1828800"/>
            <a:ext cx="5410080" cy="40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понижения вним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462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 дороге, окруженной жилыми домами, зеленью,  редко проезжает транспорт, и создается ложное пред-ставление об отсутствии угроз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 водителей тоже притуп-ляется внимание, и они едут быстрее обычного, не предполагая появления пе-шеход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акие дороги часто стано-вятся любимым местом роллеров, скейтбордистов, а также для различных игр, катания на санках и коньк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2514600"/>
            <a:ext cx="79250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181480" y="2362320"/>
            <a:ext cx="3702240" cy="24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Ловушки”, подстерегающие возле дом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4800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ельзя выбегать, не осмотревшись, из-за стоящего транспорта. Если возле дома стоит автомобиль, необходимо помнить, что он может поехать вперед, не подав сигнал, или, что опаснее, – задним ход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собенно опасны грузовики-фургоны, такси и автомобили скорой помощи. Водителям грузовиков трудно наблюдать и замечать пешеходов. Такси и “скорая помощь” часто спеша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езды у домов часто становятся местом для иг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486400" y="1600200"/>
            <a:ext cx="2971800" cy="2200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486400" y="3962520"/>
            <a:ext cx="2971800" cy="23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середины дорог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шеход, находящийся между потоками движу-щихся автомобилей, сильно испуган и его поведение хаотично и не поддается логике и прогноз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зор могут закрывать стоящие рядом пеше-ходы. От большого ко-личества мелькающих рядом автомашин может закружиться голова, и пешеход потеряет равновеси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43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45026" t="28519" r="3031" b="9096"/>
          <a:stretch/>
        </p:blipFill>
        <p:spPr>
          <a:xfrm>
            <a:off x="5562720" y="1752480"/>
            <a:ext cx="2938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408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при движении вдоль проезжей част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7025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В эту ситуацию пешеход может попасть, если идет по дороге в нарушение правил дорожного движения, то есть по ходу движения транспортных средств. В этом случае движение автомобилей происходит со спины, и пешеход не видит опасность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Автомобиль на скользкой дороге может вильнуть, или груз выступает за борта – все это грозит пешеходу травмам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Опасные дорожные ситуации – дорожные “ловушки”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95% дорожно-транспортных происшествий с детьми случаются примерно в 30 повторяющихся дорожных ситуациях – “ловушках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Дорожная ловушка”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это ситуация на дороге со скрытой  опасностью, к тому же незамеченно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закрытого обзора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Это дорожные ситуации, когда опасность скрыта от пешехода за кустами, деревьями, забором, сугробом, стоящими и движущимися автомобилями, другими пешеходами. Обзору дороги могут мешать повороты, спуски и подъемы самой дорог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105520" y="3886200"/>
            <a:ext cx="3581280" cy="2276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105520" y="1523880"/>
            <a:ext cx="358128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в зоне остановки маршрутного транспор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548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зоне остановки в ДТП попадает  треть пострадав-ших детей, в ос-новном из-за стоя-щих маршрутных транспортных средств – большой помехи обзору на дороге и спешки пешеходов или пассажир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0" t="981" r="13762" b="0"/>
          <a:stretch/>
        </p:blipFill>
        <p:spPr>
          <a:xfrm>
            <a:off x="4038480" y="2133720"/>
            <a:ext cx="4419720" cy="30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11280" y="260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ОСТАНОВКА ЭТО ВАЖНАЯ ЧАСТЬ ДОР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349360"/>
            <a:ext cx="4211640" cy="3054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748040" y="2349360"/>
            <a:ext cx="4395960" cy="3024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03280" y="5530320"/>
            <a:ext cx="7534440" cy="1015560"/>
          </a:xfrm>
          <a:prstGeom prst="roundRect">
            <a:avLst>
              <a:gd name="adj" fmla="val 16593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ПОМН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остановке никогда нельзя стоять у кромки тротуара. Тебя нечаянно могут толкнуть, и ты окажешься под колес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3716280"/>
            <a:ext cx="1297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46920" y="3357720"/>
            <a:ext cx="1297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395280" y="4941720"/>
            <a:ext cx="917640" cy="1700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9640" y="850320"/>
            <a:ext cx="8212320" cy="1320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дать автобус, троллейбус или трамвай нужно только на остановках – местах, обозначенных такими знаками, как на рисунках. А там, где их нет– на тротуаре. В сельской местности, если нет оборудованной остановки, автобус ждут на обочине дор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на пешеходном перехо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Обычно думают, что пешеходный переход – это безопасная зона, на которой с пешеходом ничего не может случиться. А ведь и здесь остановившийся автомобиль может скрывать движущийся, равно как и проехавший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886200" cy="2095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792680" y="3941640"/>
            <a:ext cx="3894120" cy="20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26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на углу перекрест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Опасность на углу перекрестка состоит в том, что автотранспорт может поворачивать направо, при этом и водителю, и пешеходу горит зеленый сигнал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Иногда задние колеса автобусов, грузовиков, прицепов оказываются очень близко к тротуару, бывает неопытный водитель выезжает на “бровку” тротуара, к тому же автотранспорт может быть с прицепом или буксировать другой автомобиль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743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40400" y="2544840"/>
            <a:ext cx="3927240" cy="26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у светоф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319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У светофора, нельзя забывать, что на дороге могут возникнуть самые непредвиденные обстоятельства, например, поедут на красный сигнал спецавтомашины (скорая помощь, милиция, пожарная); могут быть и водители, нарушающие ПДД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Нередко и сами пешеходы, как взрослые, так и дети, переходят дорогу на красный сигнал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2895480"/>
            <a:ext cx="792504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114800" y="2057400"/>
            <a:ext cx="48769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отвлечения вним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853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ешеход не замечает опасность, потому что его взгляд прико-ван к интересую-щему его предмету – автобус на другой стороне дороги, при-ятель, мяч, собака, луж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 дорожным “ловуш-кам” могут привести и еще два изобрете-ния – плеер и мобильный телефон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0" t="0" r="0" b="5202"/>
          <a:stretch/>
        </p:blipFill>
        <p:spPr>
          <a:xfrm>
            <a:off x="4876920" y="3962520"/>
            <a:ext cx="3581280" cy="2057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rcRect l="19171" t="2190" r="5766" b="0"/>
          <a:stretch/>
        </p:blipFill>
        <p:spPr>
          <a:xfrm>
            <a:off x="4876920" y="1676520"/>
            <a:ext cx="3593880" cy="2139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1-22T13:29:42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